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F549B1A-5ED8-4342-8F83-8B9870008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y institutional histories and how they are different from process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6F5A9D-7A06-4F63-945F-E80E545F5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1BE30D-2C16-44F3-BCF5-6BAD0091C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8DCA545-6944-4E90-8101-B852F1807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F37B03-056A-46EF-BAB6-3561E4F44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7DBDF0-7CD4-4C68-A0D4-57E8E3DD0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BB6-FEC9-47CD-96BA-AEC2EA42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9E4-B2B5-4073-AA1B-CC63B13A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2DB-6EEB-419D-A17B-FA2E0F94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75B-5EEC-4A46-8405-D8016D3D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886-EAFE-4CB0-92AB-A3519A45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EDC-107A-40C8-A36F-C37A96BE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C89-B359-4FC2-8977-D2A8411E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4E1-31CA-4550-8C48-0408BDC3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6F7-4E91-44A4-BE4B-E7A660AD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148-16D2-44C9-A3CB-FD3F99E1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C7F-7977-4A81-BC31-CE6E2044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DA5-0B2A-42E5-8B2E-D325D37E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8605-8096-40DB-ADE9-19A4E2BF90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E8A0-EF42-41AB-AB1D-AF0AF20A5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2282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Calibri"/>
                <a:ea typeface="Calibri"/>
              </a:rPr>
              <a:t>Institutional histories</a:t>
            </a:r>
            <a:br>
              <a:rPr sz="4400"/>
            </a:br>
            <a:r>
              <a:rPr b="1" lang="en-GB" sz="4400" spc="-1" strike="noStrike">
                <a:solidFill>
                  <a:srgbClr val="990033"/>
                </a:solidFill>
                <a:latin typeface="Calibri"/>
                <a:ea typeface="Calibri"/>
              </a:rPr>
              <a:t>Background &amp; rational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3880" y="175248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Institutions are the rules, norms, conventions and incentives and sanctions that gover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Institutional histories are narrative of the ways of working that stem from rules, conventions, and routines governing behaviour  (Prasad et al, ILAC brief # 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Rationale: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institutions assume particular importance  when organizations with different histories, cultures and mandates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A72B-D35A-4342-ABBA-1DB3CEED5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600200" y="11430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Calibri"/>
              </a:rPr>
              <a:t>New working practices of different organizations must be documented becau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rong technological narrative tends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Calibri"/>
              </a:rPr>
              <a:t> to ignore the role of institutional change in achiev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Calibri"/>
              </a:rPr>
              <a:t>Institutional innovations is crucial for research organisations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o cope with changing development agenda’s which demand partnerships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Calibri"/>
              </a:rPr>
              <a:t>with non research organisations in the innova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nstitutional histori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draw institutional lessons from what works or does not wor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 and promotes new working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FCE7-C5B7-4E24-A969-A62023800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0720" y="228240"/>
            <a:ext cx="6782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Calibri"/>
                <a:ea typeface="Calibri"/>
              </a:rPr>
              <a:t>Background and rational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Calibri"/>
                <a:ea typeface="Calibri"/>
              </a:rPr>
              <a:t>Principle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5120" y="1142640"/>
            <a:ext cx="7162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Calibri"/>
              </a:rPr>
              <a:t>Different types of organisations must work together for an institutional innovation to emanat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 because the rules and norms of working together must change for an institutional innovation t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Further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rasad et al, (2006), ILAC breif  #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outhwaite &amp; Ashby (2005), ILAC breif #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ed by the fodder innov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hambu Prasad C, Hall AJ and Wani SP. 2005.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nstitutional history of watershed research: The evolution of ICRISAT’s work on natural resources in India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Global Theme on Agroecosystems Report no. 12. Patancheru 502 324, Andhra Pradesh, India: International Crops Research Institute for the Semi-Arid Tropics. 40 p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15F4-94DA-4E75-9AE9-F28D99DC3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8734-35E1-4F75-8842-05C8B4694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76520" y="152280"/>
          <a:ext cx="7315200" cy="6532560"/>
        </p:xfrm>
        <a:graphic>
          <a:graphicData uri="http://schemas.openxmlformats.org/drawingml/2006/table">
            <a:tbl>
              <a:tblPr/>
              <a:tblGrid>
                <a:gridCol w="1981080"/>
                <a:gridCol w="3886200"/>
                <a:gridCol w="1447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Key 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akeholder sel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o do we select to participate in the institutional histori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y will they be select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ow will they be select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ective Nile 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ntification of the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s informed by several on going ways of working and outputs such as the MSC, KAP, platforms in N2 and N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ternal facili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velopment of the institutional inno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are the institutional innovations at the project leve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y is this an institutional innova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are we learning from this institutional innova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ternal facili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65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rapping it up at the BDC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s the overall institutional innovation at the NBDC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do we learn at BDC level form the collective institutional inno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DC memb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Calibri"/>
                <a:ea typeface="Calibri"/>
              </a:rPr>
              <a:t>2013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904760" y="9907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KAP surveys at the community level included in the evaluation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Most significant change at platform and communit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Institutional histories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level evaluation studies conducted at the household leve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6413-ECBC-433F-8B2F-FDCA39C90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mmulatu</cp:lastModifiedBy>
  <dcterms:modified xsi:type="dcterms:W3CDTF">2012-05-23T06:57:47Z</dcterms:modified>
  <cp:revision>241</cp:revision>
  <dc:subject/>
  <dc:title>PowerPoint Presentation</dc:title>
</cp:coreProperties>
</file>